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709-58EE-4190-BF30-9F4DE8E1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EEA-41FA-4528-A375-2FD85D8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1C5-9D86-46D9-B34A-C0F868C8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3F4-CC67-49C9-BB6F-D768185B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96D9-6DDE-4AD3-B5E1-E554B162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911-45F9-412B-87E6-AC51BDD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B0F8-CCF2-4EB4-B4E4-FB5E89B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F276-A160-48EB-A8B9-86C1CA9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EBA-8862-4D53-95E5-82B91B4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20C7-DB8A-46CB-B6FE-3983F36D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8851-A18B-4785-B5FF-F88CC2A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4DB-C53C-41BF-8CA2-E1DBACA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A5DA-510D-4D6C-8821-8F4D732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6C68-4B90-4BE9-A9B7-B537293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0FE2-3918-491B-92FA-B8E66B8E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9CB-1DC5-41C0-9779-C1A6B613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292-07DC-472E-82E5-3757783C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8AE-C686-4898-8CA4-FDEBAF4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74F-B081-4682-9B53-27A789E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2F6-B4E4-4381-B30C-56F19E7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2E0-E989-4D34-84EA-6C50EA3C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AF6-DA4C-4E7B-8EDE-2432116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276-4B08-41FC-98A8-34150A1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F22-5248-4FA5-AB37-52948132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A9F-FFC4-4D42-BD39-467CB1164E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A9A-8FB1-4112-9C04-DABC639C0B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41960" y="2514600"/>
            <a:ext cx="3961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lectrochemist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The Chemical Cel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819520"/>
            <a:ext cx="91440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system consisting of electrodes that dip into an electrolytic solution and in which a chemical reaction produces an electric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190512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chemical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514600"/>
            <a:ext cx="9144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 aqueous solution that contains ions (electrolytes) and conducts electric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8400" y="1905120"/>
            <a:ext cx="44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lytic solution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720" y="3755880"/>
            <a:ext cx="17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39280" y="4213080"/>
            <a:ext cx="438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   “Gatorade”, “All-sport”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0280" y="4808520"/>
            <a:ext cx="28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   “Battery aci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1800" y="5378400"/>
            <a:ext cx="561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3.   Your blood and interstitial fl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240" y="2057400"/>
            <a:ext cx="8452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re are two types of electrochemical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9400" y="3160800"/>
            <a:ext cx="288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Voltaic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272120"/>
            <a:ext cx="794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lectrolytic ce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8200" y="4191120"/>
            <a:ext cx="41958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not to be confused with the term “Electrochemical cel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17720" y="19051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Voltaic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4320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U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s energy from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spontaneou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chemical reaction to produce an electric current. These cells are often called a "Galvanic cells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40240" y="167652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amples of voltaic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880" y="2362320"/>
            <a:ext cx="707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non-rechargeable battery ("Dry cell"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9000" y="3124080"/>
            <a:ext cx="30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car batt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" y="3809880"/>
            <a:ext cx="328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potato clo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419720"/>
            <a:ext cx="8839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"plating solution and cell" that does not require additional electricity. (We will copper plate tin this way in the lab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16120" y="182880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olytic cel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U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s energy from a non-spontaneous chemical reaction to produce an electric current. These are often used to plate meta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20720" y="163044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xamples of electrolytic ce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0200" y="2666880"/>
            <a:ext cx="85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lectrolysis of water into Hydrogen and Oxyg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62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lectrolysis of brine (concentrated salt water) into Chlorine gas, Hydrogen, and Sodium chlorid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4120" y="20192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ode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74320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te tha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is alway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the electrode where oxidation occur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9040" y="3979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negative terminal in a volta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1440" y="471492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positive terminal in an electrolyt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34200" y="201924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Cathode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74320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te that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is alway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the electrode where reduction occur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38320" y="3979800"/>
            <a:ext cx="59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positive terminal in a volta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71440" y="47149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 is the negative terminal in an electrolytic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81720" y="1676520"/>
            <a:ext cx="199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ememb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9440" y="2286000"/>
            <a:ext cx="294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If you alphabet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70200" y="3505320"/>
            <a:ext cx="77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87840" y="2971800"/>
            <a:ext cx="26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” precedes “C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85680" y="3962520"/>
            <a:ext cx="27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O” precedes “R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20320" y="4848120"/>
            <a:ext cx="331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nodes are oxid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3200" y="5383080"/>
            <a:ext cx="360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athodes are redu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3160" y="2057400"/>
            <a:ext cx="408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lectrochemistry -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891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branch of chemistry dealing with the relations between chemical energy and electrical energ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2600" y="4038480"/>
            <a:ext cx="796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xamples of technology utilizing electrochemistr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2720" y="4648320"/>
            <a:ext cx="293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.  Batte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9440" y="5334120"/>
            <a:ext cx="278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  Electropla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90720" y="927000"/>
            <a:ext cx="7162560" cy="528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14720" y="380880"/>
            <a:ext cx="27684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halkboard"/>
              </a:rPr>
              <a:t>A Voltaic Ce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543800" cy="529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16040" y="380880"/>
            <a:ext cx="3614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 Electrolytic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22400" y="2133720"/>
            <a:ext cx="22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Electricity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040" y="3048120"/>
            <a:ext cx="350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flow of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" y="3809880"/>
            <a:ext cx="16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Electron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1040" y="4267080"/>
            <a:ext cx="80643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 negatively charged subatomic particle., found orbiting the nucleus of an atom, with an insignificant ma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2000" y="205740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Volt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9560" y="2724120"/>
            <a:ext cx="8164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nit of electromotive force, the potential difference of energy that will move one ampere of current across one ohm of resist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1080" y="205740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mp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360" y="2843280"/>
            <a:ext cx="355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nit of curr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0640" y="20574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hm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7800" y="2744640"/>
            <a:ext cx="525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he SI uit of electrical resist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7640" y="19051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xidation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895480"/>
            <a:ext cx="8839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hemical process where electrons are lost. The oxidation number (charge) gets more posi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981080"/>
            <a:ext cx="24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Reduction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9548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emical process where electrons are gained. The oxidation state (charge) gets more nega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760" y="205740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OIL RIG -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718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n acronym to help remember the difference between oxidation and reduc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43200" y="4419720"/>
            <a:ext cx="8844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xidati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L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ss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ducti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G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in (of electron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4:39:57Z</dcterms:created>
  <dc:creator>PA Department of Education</dc:creator>
  <dc:description/>
  <dc:language>en-US</dc:language>
  <cp:lastModifiedBy>PA Department of Education</cp:lastModifiedBy>
  <dcterms:modified xsi:type="dcterms:W3CDTF">2008-12-03T16:03:51Z</dcterms:modified>
  <cp:revision>26</cp:revision>
  <dc:subject/>
  <dc:title>PowerPoint Presentation</dc:title>
</cp:coreProperties>
</file>